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CD5-6BAD-4F52-87E8-B3DC1577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3B1-F55E-4F65-8769-942C192A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0E4-75D8-4C10-97B7-A532FD4F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ABD-BC07-4570-9563-A4701B45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2A0-4410-4FC3-9FF3-D75D4A88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E16-2294-40B8-8F84-04291256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B4E-D0E0-4224-BC83-5139F16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E29-42A3-4B62-95F6-37240650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811-9952-49A4-ADB4-7547C703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DC3-960C-4F9A-AE89-815FFAF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799-692D-4993-88B5-5C3400CF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DCC-3E42-4308-9FBB-D0DC44E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9338-361A-405C-A523-CEF978BE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dia.thenewstribune.com/smedia/2010/03/26/00/ope0326_egoogle_g.standalone.prod_affiliate.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scurrentaffairs.wikispaces.com/10+Google+vs.+China" TargetMode="External"/><Relationship Id="rId3" Type="http://schemas.openxmlformats.org/officeDocument/2006/relationships/hyperlink" Target="http://whscurrentaffairs.wikispaces.com/10+Google+vs.+China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160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23880" y="1676520"/>
            <a:ext cx="2667240" cy="2552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le Pearson &amp; Alyssa Cur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anuary of this year, Google announced that they are not willing to censor searches in China anymore and may back out of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’s internet is protected by “The Great Firewall of China” which block tons of websites and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when you search Google for “"Tiananmen Square" in China, you get information about one of the largest public squares in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rest of the world, you get the infamous picture of a brave student standing in front of a tank in a 1989 pro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urc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www.perrymarshall.com/google-vs-china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reacted to Google’s action with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violated the written promise it made on entering the Chinese market," said a statement on the noon news. "It is totally wrong in halting the filtering of its search provider and in making    aspersions and accusations                     toward China about hacking                               attack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ected cities such as Beijing, Hong Kong, Shanghai, and Nanning. (second 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npr.org/templates/story/story.php?storyId=125048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Map (China in bla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China (major cities effect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 could buy products whose companies support the flow of free information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should stay informed of China’s and Google’s information and internet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21:49Z</dcterms:created>
  <dc:creator>ws11058</dc:creator>
  <dc:description/>
  <dc:language>en-US</dc:language>
  <cp:lastModifiedBy>ws11058</cp:lastModifiedBy>
  <dcterms:modified xsi:type="dcterms:W3CDTF">2010-05-20T13:24:45Z</dcterms:modified>
  <cp:revision>8</cp:revision>
  <dc:subject/>
  <dc:title>Google vs. China </dc:title>
</cp:coreProperties>
</file>